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EAB-2037-4B21-8DE2-B39C08EA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1DEC-FDC1-4B6F-966E-07C611423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B70-3C57-4F1C-86AE-415D7C00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24CC-DD41-4CA4-93C9-EB93F6BA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CF6-9922-468B-A02A-6263806D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8ED-55F6-4A70-BC5C-99E7FE3B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89B-6544-4198-9D10-CDBB386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52F-EDDC-4773-8848-08436C8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E73-F19F-40B5-9863-2C9D879C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A12-56F5-4865-B3A4-B001B0F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E20-5298-4A3D-B328-108D847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EC4-3B80-40AE-9B32-8AFFA89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B7D-2EC7-45A6-A143-DAB28A6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A90-D330-4558-A167-9A11788E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414-9B5B-4894-ACE2-8C5E326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662-7BE8-422F-9567-991FB08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FAA-07D1-4B7C-AD0B-A80D5171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stop%20talking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tmp/home/.config/libreoffice/4/user/gallery/let%20go%2030%20more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4E02-95B2-4BB5-AEDB-33F76E6F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43960" y="6346800"/>
            <a:ext cx="498600" cy="504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685360" y="6019920"/>
            <a:ext cx="457200" cy="193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6"/>
          <a:stretch/>
        </p:blipFill>
        <p:spPr>
          <a:xfrm>
            <a:off x="7620120" y="0"/>
            <a:ext cx="2028600" cy="14907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60" y="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IM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What is a Dichotomous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838080"/>
            <a:ext cx="8991720" cy="41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VOCABULAR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chotomous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304920" y="2209680"/>
            <a:ext cx="373356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80880" y="2286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ycle, skates, a/p, bike, train, car,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11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7200" y="3429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57200" y="342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18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57200" y="34290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ap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ries over 10 peo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9" descr=""/>
          <p:cNvPicPr/>
          <p:nvPr/>
        </p:nvPicPr>
        <p:blipFill>
          <a:blip r:embed="rId1"/>
          <a:stretch/>
        </p:blipFill>
        <p:spPr>
          <a:xfrm>
            <a:off x="8077320" y="1676520"/>
            <a:ext cx="76176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7620120" y="2057400"/>
          <a:ext cx="4237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423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21" descr=""/>
          <p:cNvPicPr/>
          <p:nvPr/>
        </p:nvPicPr>
        <p:blipFill>
          <a:blip r:embed="rId4"/>
          <a:stretch/>
        </p:blipFill>
        <p:spPr>
          <a:xfrm>
            <a:off x="7620120" y="4191120"/>
            <a:ext cx="761760" cy="392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5"/>
          <a:stretch/>
        </p:blipFill>
        <p:spPr>
          <a:xfrm>
            <a:off x="8305920" y="4191120"/>
            <a:ext cx="838080" cy="74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6"/>
          <a:stretch/>
        </p:blipFill>
        <p:spPr>
          <a:xfrm>
            <a:off x="8458200" y="5029200"/>
            <a:ext cx="685800" cy="5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"/>
          <p:cNvPicPr/>
          <p:nvPr/>
        </p:nvPicPr>
        <p:blipFill>
          <a:blip r:embed="rId7"/>
          <a:stretch/>
        </p:blipFill>
        <p:spPr>
          <a:xfrm>
            <a:off x="7467480" y="3124080"/>
            <a:ext cx="731880" cy="99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7696080" y="4800600"/>
            <a:ext cx="59400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7620120" y="5638680"/>
            <a:ext cx="1523880" cy="428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8229600" y="2590920"/>
            <a:ext cx="560520" cy="59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8305920" y="3352680"/>
            <a:ext cx="595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57200" y="3429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eels made of rubber/plasti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57200" y="2209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bike, train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48320" y="2209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oe, boat, sailboa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57200" y="40384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, bike, car,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ries over 10 peo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572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,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4572000" y="57913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cycle, skates bike,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Transportation Vehic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ehicles with whe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1981080" y="2895480"/>
            <a:ext cx="151632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7238880" y="175248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5105520" y="5105520"/>
            <a:ext cx="1812960" cy="1100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022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304920" y="3352680"/>
            <a:ext cx="1263600" cy="148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304920" y="1752480"/>
            <a:ext cx="100332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3352680" y="4952880"/>
            <a:ext cx="135252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0"/>
          <p:cNvSpPr txBox="1"/>
          <p:nvPr/>
        </p:nvSpPr>
        <p:spPr>
          <a:xfrm>
            <a:off x="2666880" y="762120"/>
            <a:ext cx="418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re Thes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1981080" y="2895480"/>
            <a:ext cx="1516320" cy="152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7238880" y="175248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5105520" y="5105520"/>
            <a:ext cx="1812960" cy="11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022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304920" y="3352680"/>
            <a:ext cx="1263600" cy="148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304920" y="1752480"/>
            <a:ext cx="100332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3352680" y="4952880"/>
            <a:ext cx="1352520" cy="17305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10"/>
          <p:cNvSpPr txBox="1"/>
          <p:nvPr/>
        </p:nvSpPr>
        <p:spPr>
          <a:xfrm>
            <a:off x="2666880" y="762120"/>
            <a:ext cx="418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Anim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304920" y="2209680"/>
            <a:ext cx="373356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7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2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3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2286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419720" y="2209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9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0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1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3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4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5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6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38080"/>
            <a:ext cx="899172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ou will be able to explain why classification systems are importa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ou will be able to demonstrate your understanding with a dichotomous k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457200" y="220968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4419720" y="22096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24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5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6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7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8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9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0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57200" y="342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4419720" y="2209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6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8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0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1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2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3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a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419720" y="22096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utt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29" descr="C:\Program Files\Microsoft Office\Clipart\standard\stddir2\BD07377_.WMF"/>
          <p:cNvPicPr/>
          <p:nvPr/>
        </p:nvPicPr>
        <p:blipFill>
          <a:blip r:embed="rId1"/>
          <a:stretch/>
        </p:blipFill>
        <p:spPr>
          <a:xfrm>
            <a:off x="8305920" y="2527200"/>
            <a:ext cx="579240" cy="479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0" descr="C:\Program Files\Microsoft Office\Clipart\Pub60Cor\AN01044_.wmf"/>
          <p:cNvPicPr/>
          <p:nvPr/>
        </p:nvPicPr>
        <p:blipFill>
          <a:blip r:embed="rId2"/>
          <a:stretch/>
        </p:blipFill>
        <p:spPr>
          <a:xfrm>
            <a:off x="7924680" y="59436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1" descr="C:\Program Files\Microsoft Office\Clipart\standard\stddir1\AN02365_.wmf"/>
          <p:cNvPicPr/>
          <p:nvPr/>
        </p:nvPicPr>
        <p:blipFill>
          <a:blip r:embed="rId3"/>
          <a:stretch/>
        </p:blipFill>
        <p:spPr>
          <a:xfrm>
            <a:off x="8224920" y="1676520"/>
            <a:ext cx="598320" cy="68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2" descr="C:\Program Files\Microsoft Office\Clipart\standard\stddir2\BD07409_.WMF"/>
          <p:cNvPicPr/>
          <p:nvPr/>
        </p:nvPicPr>
        <p:blipFill>
          <a:blip r:embed="rId4"/>
          <a:stretch/>
        </p:blipFill>
        <p:spPr>
          <a:xfrm>
            <a:off x="8381880" y="3276720"/>
            <a:ext cx="762120" cy="461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C:\Program Files\Microsoft Office\Clipart\standard\stddir1\AN04299_.WMF"/>
          <p:cNvPicPr/>
          <p:nvPr/>
        </p:nvPicPr>
        <p:blipFill>
          <a:blip r:embed="rId5"/>
          <a:stretch/>
        </p:blipFill>
        <p:spPr>
          <a:xfrm>
            <a:off x="8305920" y="5227560"/>
            <a:ext cx="838080" cy="468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C:\Program Files\Microsoft Office\Clipart\WebArt\BD10881_.GIF"/>
          <p:cNvPicPr/>
          <p:nvPr/>
        </p:nvPicPr>
        <p:blipFill>
          <a:blip r:embed="rId6"/>
          <a:stretch/>
        </p:blipFill>
        <p:spPr>
          <a:xfrm>
            <a:off x="7772400" y="2971800"/>
            <a:ext cx="519120" cy="609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5" descr="C:\Program Files\Microsoft Office\Clipart\standard\stddir1\BD06096_.WMF"/>
          <p:cNvPicPr/>
          <p:nvPr/>
        </p:nvPicPr>
        <p:blipFill>
          <a:blip r:embed="rId7"/>
          <a:stretch/>
        </p:blipFill>
        <p:spPr>
          <a:xfrm>
            <a:off x="7848720" y="3886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6" descr="C:\Program Files\Microsoft Office\Clipart\standard\stddir2\BD07393_.WMF"/>
          <p:cNvPicPr/>
          <p:nvPr/>
        </p:nvPicPr>
        <p:blipFill>
          <a:blip r:embed="rId8"/>
          <a:stretch/>
        </p:blipFill>
        <p:spPr>
          <a:xfrm>
            <a:off x="8647200" y="4191120"/>
            <a:ext cx="4968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2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trich, wor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k, man, ro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228600" y="2209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495680" y="2209680"/>
            <a:ext cx="312444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457200" y="3429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a tai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724280" y="4114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57200" y="2209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gorilla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48320" y="22096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304920" y="40384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572000" y="4038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572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, 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4572000" y="40384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5720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utt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304920" y="579132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4572000" y="5791320"/>
            <a:ext cx="312408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4572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4572000" y="5791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0" y="3808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hotomous Key of  Anim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30492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imals with 4 leg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 for Class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efully observe objects to “notice”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ce objects into either one group or another – not both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ine each group you create – to see if it can be further subdiv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1066680"/>
            <a:ext cx="8381880" cy="47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y do we classify things </a:t>
            </a:r>
            <a:r>
              <a:rPr b="1" i="1" lang="en-US" sz="3800" spc="-1" strike="noStrike">
                <a:solidFill>
                  <a:srgbClr val="3333cc"/>
                </a:solidFill>
                <a:latin typeface="Times New Roman"/>
              </a:rPr>
              <a:t>(like at the shoe store or the grocery store)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To make things easier!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acOS" descr=""/>
          <p:cNvPicPr/>
          <p:nvPr/>
        </p:nvPicPr>
        <p:blipFill>
          <a:blip r:embed="rId1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1066680"/>
            <a:ext cx="761976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y do scientists classify thing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TO MAKE THINGS EAS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895480" y="609480"/>
            <a:ext cx="3476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chotomous Ke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1828800"/>
            <a:ext cx="8153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a system used by scientists to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unknown organisms by examining th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haracteristic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organism and then determining to which group that unknown organism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hould b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laced based upon thos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haracteris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90920" y="533520"/>
            <a:ext cx="42670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chotomous Ke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1905120"/>
            <a:ext cx="85345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ides a larger group in smaller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ically, it may separate objects into groups that “have it” and those that “don’t have i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14479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057400" y="1257480"/>
          <a:ext cx="825480" cy="140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257480"/>
                    <a:ext cx="825480" cy="14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7010280" y="4419720"/>
            <a:ext cx="1714680" cy="88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5"/>
          <a:stretch/>
        </p:blipFill>
        <p:spPr>
          <a:xfrm>
            <a:off x="380880" y="5067360"/>
            <a:ext cx="201960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6"/>
          <a:stretch/>
        </p:blipFill>
        <p:spPr>
          <a:xfrm>
            <a:off x="609480" y="2666880"/>
            <a:ext cx="1447920" cy="107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5715000" y="10666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5029200" y="3733920"/>
            <a:ext cx="112860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4114800" y="6000840"/>
            <a:ext cx="304812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6934320" y="1828800"/>
            <a:ext cx="1778040" cy="189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2971800" y="4038480"/>
            <a:ext cx="1039680" cy="1063800"/>
          </a:xfrm>
          <a:prstGeom prst="rect">
            <a:avLst/>
          </a:prstGeom>
          <a:ln w="0">
            <a:noFill/>
          </a:ln>
        </p:spPr>
      </p:pic>
      <p:sp>
        <p:nvSpPr>
          <p:cNvPr id="72" name="WordArt 25"/>
          <p:cNvSpPr txBox="1"/>
          <p:nvPr/>
        </p:nvSpPr>
        <p:spPr>
          <a:xfrm>
            <a:off x="838080" y="609480"/>
            <a:ext cx="412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ook at these Pict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14479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209680" y="1676520"/>
          <a:ext cx="825480" cy="14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76520"/>
                    <a:ext cx="8254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010280" y="4419720"/>
            <a:ext cx="1714680" cy="88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5"/>
          <a:stretch/>
        </p:blipFill>
        <p:spPr>
          <a:xfrm>
            <a:off x="380880" y="5067360"/>
            <a:ext cx="2019600" cy="17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6"/>
          <a:stretch/>
        </p:blipFill>
        <p:spPr>
          <a:xfrm>
            <a:off x="609480" y="2666880"/>
            <a:ext cx="1447920" cy="10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7"/>
          <a:stretch/>
        </p:blipFill>
        <p:spPr>
          <a:xfrm>
            <a:off x="5715000" y="10666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Program Files\Microsoft Office\Clipart\standard\stddir4\TN00328_.wmf"/>
          <p:cNvPicPr/>
          <p:nvPr/>
        </p:nvPicPr>
        <p:blipFill>
          <a:blip r:embed="rId8"/>
          <a:stretch/>
        </p:blipFill>
        <p:spPr>
          <a:xfrm>
            <a:off x="5029200" y="3733920"/>
            <a:ext cx="1128600" cy="144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Program Files\Microsoft Office\Clipart\Pub60Cor\TN00218_.wmf"/>
          <p:cNvPicPr/>
          <p:nvPr/>
        </p:nvPicPr>
        <p:blipFill>
          <a:blip r:embed="rId9"/>
          <a:stretch/>
        </p:blipFill>
        <p:spPr>
          <a:xfrm>
            <a:off x="4114800" y="6000840"/>
            <a:ext cx="304812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Program Files\Microsoft Office\Clipart\standard\stddir1\BD06361_.WMF"/>
          <p:cNvPicPr/>
          <p:nvPr/>
        </p:nvPicPr>
        <p:blipFill>
          <a:blip r:embed="rId10"/>
          <a:stretch/>
        </p:blipFill>
        <p:spPr>
          <a:xfrm>
            <a:off x="6934320" y="1828800"/>
            <a:ext cx="1778040" cy="18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:\Documents and Settings\OFFLINE\My Documents\My Pictures\skates.jpg"/>
          <p:cNvPicPr/>
          <p:nvPr/>
        </p:nvPicPr>
        <p:blipFill>
          <a:blip r:embed="rId11"/>
          <a:stretch/>
        </p:blipFill>
        <p:spPr>
          <a:xfrm>
            <a:off x="2971800" y="4038480"/>
            <a:ext cx="1039680" cy="10638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2"/>
          <p:cNvSpPr txBox="1"/>
          <p:nvPr/>
        </p:nvSpPr>
        <p:spPr>
          <a:xfrm>
            <a:off x="762120" y="609480"/>
            <a:ext cx="420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at do they have 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mmon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4572000" y="10666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04920" y="1066680"/>
            <a:ext cx="380988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380880" y="2895480"/>
            <a:ext cx="3810240" cy="106704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4648320" y="2895480"/>
            <a:ext cx="3124080" cy="106704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80880" y="4648320"/>
            <a:ext cx="3810240" cy="1066680"/>
          </a:xfrm>
          <a:prstGeom prst="roundRect">
            <a:avLst>
              <a:gd name="adj" fmla="val 16667"/>
            </a:avLst>
          </a:prstGeom>
          <a:solidFill>
            <a:srgbClr val="99ff66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724280" y="4572000"/>
            <a:ext cx="3124440" cy="106668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2319480" y="2697120"/>
            <a:ext cx="4505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py this diagr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5:21:37Z</dcterms:created>
  <dc:creator>NMS</dc:creator>
  <dc:description/>
  <dc:language>en-US</dc:language>
  <cp:lastModifiedBy>Daniel Ramalho</cp:lastModifiedBy>
  <cp:lastPrinted>2002-10-22T19:29:58Z</cp:lastPrinted>
  <dcterms:modified xsi:type="dcterms:W3CDTF">2011-11-27T01:22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21769073</vt:r8>
  </property>
  <property fmtid="{D5CDD505-2E9C-101B-9397-08002B2CF9AE}" pid="3" name="_AuthorEmail">
    <vt:lpwstr>jonzim@optonline.net</vt:lpwstr>
  </property>
  <property fmtid="{D5CDD505-2E9C-101B-9397-08002B2CF9AE}" pid="4" name="_AuthorEmailDisplayName">
    <vt:lpwstr>Jonathan Zimmerman</vt:lpwstr>
  </property>
  <property fmtid="{D5CDD505-2E9C-101B-9397-08002B2CF9AE}" pid="5" name="_EmailSubject">
    <vt:lpwstr/>
  </property>
</Properties>
</file>